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B0D1-EFDF-4B8E-924C-FB690C836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wa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our strategy: using popsicle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prese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n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Selecting tools and computational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ets 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 questions to the appropriate big ideas from either Marian or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ed questions they have to defend to the whol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88B-F4D9-4D43-ACFD-4B63D5F9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2E4-4DBA-4A7C-9D56-02E4D8E0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1A8-008A-4E9C-B569-E3E883D4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ABD-BE56-4495-AFD8-34C47C00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2ACE-1DCC-42E3-BC2D-7C0A569D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01F1-7F55-471F-AD43-0F27E1A6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28B9-2A7D-45CC-B742-CDD2E29C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162F-37C2-457D-93B2-F8D2D4CD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DC49-7F68-47D0-9BBA-A2FDB2FB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AE33-7F06-480D-979E-1C0ED49B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94CF-7D6D-4232-AF3E-8E72F1FD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87D-86B6-418E-8465-CFC4F152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E410-D429-416E-B1C4-E70FAEFB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5C2F-71AC-40F2-A122-02020C1D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22E1-C1F0-46A5-A9F4-3D587971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656D-7842-4FFC-A707-84D851B0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6DB9-C51D-4D76-83C1-20D81AF0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7F0-D85F-4E9F-987B-FB5EABAD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324-6167-4648-8A48-0A299E1E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F56-A28D-4C1D-8EC5-A85A1EF0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6D6-EF65-46C3-AB98-389FC1CD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CCF-48BE-49F8-AE27-A60EB225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DFE-EE58-4529-901B-4CDBCC92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FED-0F8E-4233-9598-8A5EED72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8FFB-F6C2-4FC1-918F-854179436556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EF4C-DEE9-4EF3-B498-7740AB720BFF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545080" cy="454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3434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Linear Relations Day 1</a:t>
            </a:r>
            <a:br>
              <a:rPr sz="48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August 17, 2009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Greg Clarke &amp; Trish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57360" y="1263600"/>
            <a:ext cx="6014880" cy="43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9000" y="358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760" y="1249200"/>
            <a:ext cx="836604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Develop an Understanding of how the Big Ideas from Patterning to Algebraic Reasoning connect to Linear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Develop an Understanding of the Big Ideas that are unique to Linear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Connect the Mathematical Processes to the Big Ide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Provide Differentiated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Use Literacy Strateg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Effective Use of Technology and Manipul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Questioning to Evoke and Expos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Build a Math-Talk Learning Community                                  (fearless speaking and list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199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Provide Assessment for Learning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50920" y="782640"/>
            <a:ext cx="5459400" cy="534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4935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Meet and Greet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13040" y="3535200"/>
            <a:ext cx="3602160" cy="2767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39800" y="1652760"/>
            <a:ext cx="789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 strategy                                                             you have used or would like to use                                  in the first week of class                                                   to help students feel comfortable with sharing and talking about mathematics in your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Big Ideas from Patterning to Algebraic Reasoning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reasoning is a process of describing and analyzing (e.g., predicting) generalized mathematical relationships and change using words and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mathematical relationships helps us see that there are classes of relationships and provides insight into each member of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presentations of relationships (e.g. numeric, graphic, geometric, algebraic) highlight different characteristics or behaviours, and can serve different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information about a mathematical relationship can sometimes, but not always, allow us to predict other information about that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Big Ideas for Linear Func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functions are mathematical descriptions of relationships that change at a steady 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wo pieces of information (e.g. 2 points, slope and a point) are needed to uniquely define a linear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92320" y="1724040"/>
            <a:ext cx="6610320" cy="5133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9200" y="9237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  <a:ea typeface="Arial"/>
              </a:rPr>
              <a:t>Which Link to the Big Ideas for Linear Rel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0200" y="4269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Arial"/>
              </a:rPr>
              <a:t>Matching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rot="1066800">
            <a:off x="712440" y="3920760"/>
            <a:ext cx="1936800" cy="2541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7200" y="1398600"/>
            <a:ext cx="51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question, identify the      Big Idea that it is associated with,     and post on chart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89520" y="1309680"/>
            <a:ext cx="2836800" cy="4270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36560" y="2798640"/>
            <a:ext cx="41263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ready to defend the highligh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6200" y="884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How do the overall expectations link to the Big Ideas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20886600">
            <a:off x="4859280" y="2519280"/>
            <a:ext cx="2068560" cy="26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995400">
            <a:off x="6575040" y="3773160"/>
            <a:ext cx="1851120" cy="240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2554200"/>
            <a:ext cx="48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 1: Identify a learning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4200" y="3711600"/>
            <a:ext cx="3778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 2:  Select or Creat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ds on Ques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your learning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Steele</cp:lastModifiedBy>
  <dcterms:modified xsi:type="dcterms:W3CDTF">2009-08-05T12:10:42Z</dcterms:modified>
  <cp:revision>94</cp:revision>
  <dc:subject/>
  <dc:title>Slide 1</dc:title>
</cp:coreProperties>
</file>